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AE9E-C183-46CA-8E4D-B79C4EF6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057A-08A7-4331-B1BE-931929DB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EA90-C90D-4E23-B46C-510C3E5A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7B0F-F3E8-4A29-8C27-FB05124C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0980-C6A8-425A-9454-80FD69F7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80B0-29F2-4F99-A068-8D98FACD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14AF-2C15-4D9E-8CE6-EA414379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8CA5-3B57-4AD6-BEEF-3626C108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FC7D-AC05-4C29-9C81-BDD81E42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FAA4-8B44-494F-A6ED-2325272E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D3FF-7A82-4A03-8538-1314B71B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F6C7-1600-464A-8E26-2446699A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00D4-1371-420D-880B-14DDA964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F08E-6275-48F4-A0BB-56E67D3B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7BD5-AD63-4096-B805-F2FC9CC2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56E5-E821-4885-8FC8-872311A1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BA31-0D80-499B-AB42-EC8C0EE1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3796-A94F-4D6C-824E-FD93A43C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A4AB-A35B-4A8D-94BA-D76A7144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FD82-D852-4483-9A7B-26D65A9C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747F-3764-4343-AA71-85771692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5584-2C22-408F-B3D0-42A03FDD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0239-92D2-4BE7-800E-D769B4A2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B614-F313-4FF5-9D7F-7C6737AE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67FD-5E0F-4A25-B753-8FE1C6DE6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prstGeom prst="pie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prstGeom prst="pie">
                <a:avLst/>
              </a:pr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prstGeom prst="pie">
                <a:avLst/>
              </a:pr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prstGeom prst="pie">
                <a:avLst/>
              </a:pr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prstGeom prst="pi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prstGeom prst="pie">
                <a:avLst/>
              </a:pr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prstGeom prst="pie">
                <a:avLst/>
              </a:pr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prstGeom prst="pie">
                <a:avLst/>
              </a:pr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prstGeom prst="pie">
                <a:avLst/>
              </a:pr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prstGeom prst="pi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prstGeom prst="pie">
                <a:avLst/>
              </a:pr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prstGeom prst="pie">
                <a:avLst/>
              </a:pr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prstGeom prst="pie">
                <a:avLst/>
              </a:pr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prstGeom prst="pie">
                <a:avLst/>
              </a:pr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prstGeom prst="pi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prstGeom prst="pie">
                <a:avLst/>
              </a:pr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3881-E757-448E-A507-CF20C8055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Gram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erbs are words that tell more about verb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erbs tell when, where, and h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When Adverb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dverbs tell w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rl is going to the sto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en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ester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a drink of wate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plac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 in the 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Where Adverb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dverbs tell “wher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alk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t hi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r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r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kitc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 po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How Adverb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dverbs tell h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dverbs end with -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arou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low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the bottl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refu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rl san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wee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by cri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ud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15:23:21Z</dcterms:created>
  <dc:creator>GCSD</dc:creator>
  <dc:description/>
  <dc:language>en-US</dc:language>
  <cp:lastModifiedBy>teacher</cp:lastModifiedBy>
  <cp:lastPrinted>2005-05-09T18:27:58Z</cp:lastPrinted>
  <dcterms:modified xsi:type="dcterms:W3CDTF">2011-01-19T00:26:50Z</dcterms:modified>
  <cp:revision>2</cp:revision>
  <dc:subject/>
  <dc:title>Adverbs</dc:title>
</cp:coreProperties>
</file>